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D624-0914-46E0-A3C8-B507FB824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st.gov/oles/forensics/biology_dna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1/02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rugline.org/medic/term/meiotic-nondisjun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jp.psychiatryonline.org/Mobile/article.aspx?articleid=175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junction.com/karyotype_la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arveendulai.wikispaces.com/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eneticsandsociety.org/article.php?id=4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image of hosta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oseyscountrygarden.com/garden-journal-06/autumn-garden-journal-64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esearch.psu.edu/arp/research-reviews/ultra-deep-sequencing-of-mouse-mitochondrial-dna-mutational-patterns-and-their-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image of Elysia chlorotica (green sea slu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ired.com/wiredscience/2010/01/green-sea-slu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D7C-F69C-41C7-84B2-BA6D36D7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765-8903-4D7B-BFEC-EA6EA4C3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084-572F-4537-8D2F-FF3D57D6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107-4484-43E0-9F63-4A967B1E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A9B-C07C-4441-A1A2-E4B86EE0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A28-FB26-47AB-A359-AC8F7901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640-488D-4878-8AA7-7D5C9516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FFF-5442-480B-9BA3-9C7C4683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1DE-9D02-4E8A-8101-305C13FE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9A1-F683-463A-B526-7DA8745B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68A-D5D9-4060-AE61-FF4EFA7B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C7B-15FB-47E7-A5B8-0DD25CF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43CE-443B-49EE-9D0B-FA9A1FD6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tic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disjunction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toplasmic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y have two sets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let’s look at meiosis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58920" y="609480"/>
            <a:ext cx="482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s of errors can happen during mei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disj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ppen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gametes can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happen in mitosis, but this is less harmful because it isn’t passed on to the next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787320"/>
            <a:ext cx="7772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 some 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al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ng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(mutations) in th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2567160"/>
            <a:ext cx="38098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84520" y="1981080"/>
            <a:ext cx="557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 (trisomy 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about 1 in 800 ba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degrees of intellectu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faci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heart defects and oth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 &amp; 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6000 babies are born with   trisomy 13 and 1 in 5000 are born    with trisomy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intellectual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hysical 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ffected babies die before their first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about 1 in 500-1000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ve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dults they produce less than normal amounts of testosterone and are in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onosomy 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2500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infertile and do not undergo normal puberty changes unless they are treated with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health problems including heart and kidney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intelligence but some have learning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1000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 physical birth defects, experience normal puberty and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ve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1000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ller than average, have normal sexual development and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ave normal intelligence, though some have learning, behavioral and speech/languag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sted Reproductive Technologies (AR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vitro fertilization (IV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in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&amp;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breeding &amp; wildlife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enefits to using artificial in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ic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n mitochondria and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perm cell fertilizes an egg cell, which cell contributes the cytoplasmic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nal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rnal inheritance (less comm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Variation -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green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chloroplasts with genetic m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264780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Variation -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are genetic disorders caused by mutations in mitochondrial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egg sw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izontal Gene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ic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somatic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wo sets of    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2:19:47Z</dcterms:created>
  <dc:creator>rubina khan</dc:creator>
  <dc:description/>
  <dc:language>en-US</dc:language>
  <cp:lastModifiedBy>rubina khan</cp:lastModifiedBy>
  <dcterms:modified xsi:type="dcterms:W3CDTF">2013-03-07T17:24:13Z</dcterms:modified>
  <cp:revision>181</cp:revision>
  <dc:subject/>
  <dc:title>Genetic Processes</dc:title>
</cp:coreProperties>
</file>